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FFF3-3E70-4210-96BF-48E26F3F5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8F40-0264-41C6-8610-8F041D108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FE8C-9B5D-49F1-B930-3568DFE37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5E9D-8731-42B3-A0F5-D26B014EB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C0C8-831B-4D9B-A9D7-DC0990BFC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1E0E-1269-487C-886B-73C7B019A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D03B-6BD8-43B5-B815-2AB933AA2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BA1E-A6C5-4550-BBE1-C41C70CCE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CCBC-476B-40B3-B937-457B55496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F3B3-15BD-4887-A7FD-389C596D5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C044-2195-4D97-AF35-AB9F2FFE5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B0FA-753F-468E-98F6-C68D464C9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133F-0211-4E95-8830-53B37EAEC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8ABD-5B18-4C8E-8378-38C8D4A01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A9A9-80A6-41E6-8C7A-52673EB5C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BB1A-8D68-44C0-919B-08C148E71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8942-1729-4735-9D5F-CB9D9DE85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B21A-6041-40A2-870A-7E36E58D3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9851-9D6F-4F01-8971-45359694F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127A-A6FB-4358-B432-38AF6AE1C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5844-6E40-4631-A89F-3542EB41F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27A7-7F42-4F27-9406-F52D62037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F8AC-56C6-46B1-95EA-25F5BB790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4784-E20B-4ED8-95B0-9EE3D484870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B76B-D2A3-43D8-A8F9-12656C47F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2EC1-0C36-4819-8C62-393DBACE3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3293-19CC-4C24-802D-AE0BB5FE4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98E4-0432-4AD3-BF18-6263EFD8E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C973-F2A7-49A0-A1B6-B9A3CEAB0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D172-798A-48EB-8E0F-68D440236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1E11-F5AC-41A1-92E4-0648EBBFE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7A21-408F-456A-BF7E-CB477D726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3ED2-5966-4796-96F3-FEC6A85A6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B8FA-63B7-404A-8491-07CB0FC37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5F3D-C72E-4D53-9BA7-E0A894ABCF4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801B-2AB1-41D7-9381-4F0A6322A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7547-304E-40E8-8347-2DFC2CB0C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5592-EDAD-433B-9B8A-35A92DD2D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8861-16B9-4FCF-884B-EC6D17C4C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BB7B-D188-4DD9-B08C-5274576BF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A774-85AB-47C3-8151-6AF5F1C0A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CCFA-05F5-4B7A-9973-2E906D14B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6318-99ED-4EF5-9F76-D4A311E21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A964-6DBB-4315-B58F-9B71F076F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68EA-6397-4C55-9CAF-0A0D317E6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2BD0-3F14-4E6B-BF0A-1250CAF4E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C86B-8B26-4F81-B598-F6A04F355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6702-F481-4C17-8C4A-72205797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F2C2-0A35-4BF4-BB0C-21AC2B9CF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7C04-FF30-4440-8295-4216B17A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A807-99FF-4EDC-99ED-A9E3D99E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5F66-5C12-406F-9A89-B3CBC1DD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A06B-4965-44D4-9FBA-6DBEC7B2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FD69-151F-423A-8F72-917EA7A1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9BAB-28DF-4A48-B653-F2EE9C59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72D6-4270-4F45-9B44-72CC6719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BCE1-11EC-41FE-8B5C-4F298983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96C5-30A6-4548-A834-D4519F12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9742-6201-4D01-B61D-10741464ECE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000000"/>
                </a:solidFill>
                <a:latin typeface="Calibri"/>
              </a:rPr>
              <a:t>Етичност медицинских испитивањ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4880" y="3886200"/>
            <a:ext cx="651348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898989"/>
                </a:solidFill>
                <a:latin typeface="Calibri"/>
              </a:rPr>
              <a:t>Проф. др Драган Р. Миловановић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898989"/>
                </a:solidFill>
                <a:latin typeface="Calibri"/>
              </a:rPr>
              <a:t>Факултет медицинских наука и Клинички центар у Крагујевц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nrd750-f5.gif"/>
          <p:cNvPicPr/>
          <p:nvPr/>
        </p:nvPicPr>
        <p:blipFill>
          <a:blip r:embed="rId1"/>
          <a:stretch/>
        </p:blipFill>
        <p:spPr>
          <a:xfrm>
            <a:off x="1676520" y="314280"/>
            <a:ext cx="5715000" cy="3495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nrd750-f3.gif"/>
          <p:cNvPicPr/>
          <p:nvPr/>
        </p:nvPicPr>
        <p:blipFill>
          <a:blip r:embed="rId2"/>
          <a:stretch/>
        </p:blipFill>
        <p:spPr>
          <a:xfrm>
            <a:off x="1752480" y="4114800"/>
            <a:ext cx="57150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457200" y="1028880"/>
            <a:ext cx="8305920" cy="51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3818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38224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Истражив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КП формално прописује 2 услова и 11 задатака истраживача клиничке студиј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сновни захтев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374"/>
              </a:spcBef>
              <a:buClr>
                <a:srgbClr val="a945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валификован образовањем, обуком и искуств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374"/>
              </a:spcBef>
              <a:buClr>
                <a:srgbClr val="a945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узима одговорност за правилно извођење студ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374"/>
              </a:spcBef>
              <a:buClr>
                <a:srgbClr val="a945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кументује своје квалификације и компетен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374"/>
              </a:spcBef>
              <a:buClr>
                <a:srgbClr val="a945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познат са леком који се испиту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374"/>
              </a:spcBef>
              <a:buClr>
                <a:srgbClr val="a945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познат са међународном и националном регулатив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374"/>
              </a:spcBef>
              <a:buClr>
                <a:srgbClr val="a945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рађује током мониторинга и надз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374"/>
              </a:spcBef>
              <a:buClr>
                <a:srgbClr val="a945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елегира задатке другим квалификованим особ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374"/>
              </a:spcBef>
              <a:buClr>
                <a:srgbClr val="a945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сполаже адекватним ресурс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mbria"/>
              </a:rPr>
              <a:t>Истраживач - испитива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300" spc="-1" strike="noStrike">
                <a:solidFill>
                  <a:srgbClr val="000000"/>
                </a:solidFill>
                <a:latin typeface="Calibri"/>
              </a:rPr>
              <a:t>Истраживач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Главни истраживач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80000"/>
              </a:lnSpc>
              <a:spcBef>
                <a:spcPts val="374"/>
              </a:spcBef>
              <a:buClr>
                <a:srgbClr val="a945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ођа истраживачког тима у центру испитив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страживач координатор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80000"/>
              </a:lnSpc>
              <a:spcBef>
                <a:spcPts val="374"/>
              </a:spcBef>
              <a:buClr>
                <a:srgbClr val="a945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ординатор истраживача различитих цента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дистраживач” (истраживач сарадник, коистраживач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80000"/>
              </a:lnSpc>
              <a:spcBef>
                <a:spcPts val="374"/>
              </a:spcBef>
              <a:buClr>
                <a:srgbClr val="a945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менован и надзиран од стране истраживач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374"/>
              </a:spcBef>
              <a:buClr>
                <a:srgbClr val="8c383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роводи кључне активно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374"/>
              </a:spcBef>
              <a:buClr>
                <a:srgbClr val="8c383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носи одлу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lnSpc>
                <a:spcPct val="80000"/>
              </a:lnSpc>
              <a:spcBef>
                <a:spcPts val="374"/>
              </a:spcBef>
              <a:buClr>
                <a:srgbClr val="a9454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Calibri"/>
              </a:rPr>
              <a:t>ранг специјализант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страживач/установ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mbria"/>
              </a:rPr>
              <a:t>Зада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Лечење испитани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муникација са етичким одборо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штовање протокола студиј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ступак са испитиваним леко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андомизовање и демаскирање испитани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безбеђивање информисаног пристан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окументовање подата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дношење извештаја о току студије и безбедност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провођење прекида студиј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вршно извештавањ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mbria"/>
              </a:rPr>
              <a:t>Комуникација са етичким одбор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токол студи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разац за пристана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пис поступака за регрутациј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руге писане информације за испитани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рошура за истраживач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визије претходно одобрених докумена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ферисање о било којим аспекти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е учествује у разматрању, не присуствује гласању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узимање писаних процедура етичког одбо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mbria"/>
              </a:rPr>
              <a:t>Други аспек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ступање од протокола или спровођење амандмана без одобрења етичког одбро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Отклањање непосредне опасности по испитани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вештај етичком одбор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Редовно најмање једном годишњ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Битне измене – одма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Тешки нежељени догађаји, хитно и накнадн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чувати идентитет испитани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екид студије, одма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Завршетак студиј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mbria"/>
              </a:rPr>
              <a:t>Обавезе истраживача према спонзору – етички аспек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зив и адреса Етичког одб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јава Етичког одбора да је хармонизован са ДКП и надлежном регулатив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обрење Етичког одб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писани информисани пристанци и припадајућа докум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кнадна мишљења Етичког одб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тички одбори- састав, регулатива, задаци и циљеви рада 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 може да ради истраживање и кад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пецифичности испитавања на људим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нформисани пристанак за учешће у клиничкој студији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егрутовање пацијената за клиничке студије 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конске обавезе у вези са клиничким испитивањима 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искусија примера етичног и неетичног испитивањ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ИСТЕМ ЕТИЧКИХ ОДБО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истем Етичких одбора у свакој држави представља изузетно важан друштвени механизам  укључен у заштиту хуманих субјеката. Њихов рад би требало да карактериш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мпетентност чланова одбора (стручност, етичнос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анспарентост у ра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штовање и имплементација законске регулативе у процесу одлучив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нзистенција у извештавању, како у оквиру једног ЕО, тако и између више Комите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здржаност свих оних појединаца који би могли имати одређени интерес у истраживањ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Етички од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ручно тело које прати пружање и спровођење здравствене заштите на начелима професионалне етик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д Етичког одбора (ЕО) је у складу са Статутом и Законом здравствене установе у којој је одбор формиран, као и Пословником у коме је овај рад тачно дефинис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ако се бирају чланови Е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2133720"/>
            <a:ext cx="81532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дседника, његовог заменика и чланове ЕО именује Директор здравствене установе, а на предлог Стручног Савета те установе, на период од две године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о су чланови Етичког одбор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менују се из реда запослених здравствених радника матичне здравствене организације, као и грађана са завршеним правним факултетом који живе и раде на територији коју покрива здравствена устан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О има седам чланова, од којих су пет здравствени радници матичне установе и два представници грађана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67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оје су обавезе чланова Е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52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ора пристати да се објаве његово (њено) име, занимање и послодава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ора пристати да се било каква материјална надокнада за рад у ЕО забележи и објави, ако се то затраж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ланови и секретар ЕО потписују уговор са директором Здравствене установе којим се обавезују да ће чувати као тајну све што сазнају у вези са апликацијама за клиничке студ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ваки члан ЕО мора проћи иницијалну едукацију о ДКП и Хелсиншкој Декларацији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Потенцијална злоупотреба чланства у Етичком одбор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560" y="1700280"/>
            <a:ext cx="85122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зиција члана Етичког одбора директно омогућава да, по питању одлучивања везаног за одређену клиничку студију, може доћи до сукоба интерес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енцијални сукоб интереса чланова Етичког одбора, може значајно компромитовати његово функционисање, те га је потребно правовремено препознати и предузети одговарајуће ме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Пословник о раду Етичких одбора и сукоб интерес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ловник о раду сваког Етичког одбора би требало да предвиде ситуацију да ће се неки од његових чланова наћи у сукобљеном интересу у односу на одређени предм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 правилу, члан Етичког одбора који је на било који начин укључен у неко истраживање би требало да се уздржи од расправе, односно одлучивања о конкретном предмет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11488b"/>
                </a:solidFill>
                <a:latin typeface="Cambria"/>
              </a:rPr>
              <a:t>ГЕНЕТИЧКЕ СТУД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lang="sr-CS" sz="3600" spc="-1" strike="noStrike">
                <a:solidFill>
                  <a:srgbClr val="000000"/>
                </a:solidFill>
                <a:latin typeface="Cambria"/>
              </a:rPr>
              <a:t>нализа г</a:t>
            </a:r>
            <a:r>
              <a:rPr b="0" lang="en-GB" sz="3600" spc="-1" strike="noStrike">
                <a:solidFill>
                  <a:srgbClr val="000000"/>
                </a:solidFill>
                <a:latin typeface="Cambria"/>
              </a:rPr>
              <a:t>ен</a:t>
            </a:r>
            <a:r>
              <a:rPr b="0" lang="sr-CS" sz="36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en-GB" sz="3600" spc="-1" strike="noStrike">
                <a:solidFill>
                  <a:srgbClr val="000000"/>
                </a:solidFill>
                <a:latin typeface="Cambria"/>
              </a:rPr>
              <a:t> у породичном стабл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mbria"/>
              </a:rPr>
              <a:t>Локализација и функција гена у циљној боле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mbria"/>
              </a:rPr>
              <a:t>Гени у д</a:t>
            </a:r>
            <a:r>
              <a:rPr b="0" lang="en-GB" sz="3600" spc="-1" strike="noStrike">
                <a:solidFill>
                  <a:srgbClr val="000000"/>
                </a:solidFill>
                <a:latin typeface="Cambria"/>
              </a:rPr>
              <a:t>ијагности</a:t>
            </a:r>
            <a:r>
              <a:rPr b="0" lang="sr-CS" sz="3600" spc="-1" strike="noStrike">
                <a:solidFill>
                  <a:srgbClr val="000000"/>
                </a:solidFill>
                <a:latin typeface="Cambria"/>
              </a:rPr>
              <a:t>ци</a:t>
            </a:r>
            <a:r>
              <a:rPr b="0" lang="en-GB" sz="3600" spc="-1" strike="noStrike">
                <a:solidFill>
                  <a:srgbClr val="000000"/>
                </a:solidFill>
                <a:latin typeface="Cambria"/>
              </a:rPr>
              <a:t> и скрининг</a:t>
            </a:r>
            <a:r>
              <a:rPr b="0" lang="sr-CS" sz="3600" spc="-1" strike="noStrike">
                <a:solidFill>
                  <a:srgbClr val="000000"/>
                </a:solidFill>
                <a:latin typeface="Cambria"/>
              </a:rPr>
              <a:t>у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mbria"/>
              </a:rPr>
              <a:t>Генска терап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1488b"/>
                </a:solidFill>
                <a:latin typeface="Cambria"/>
              </a:rPr>
              <a:t>Етички аспек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Регулаторни надоз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Поверљивост и приватнос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Приступ подацима и узорц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Информисани пристан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Доступност ле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Одговорности лека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C:\Users\User\Desktop\genetics.jpg"/>
          <p:cNvPicPr/>
          <p:nvPr/>
        </p:nvPicPr>
        <p:blipFill>
          <a:blip r:embed="rId1"/>
          <a:stretch/>
        </p:blipFill>
        <p:spPr>
          <a:xfrm>
            <a:off x="6781680" y="0"/>
            <a:ext cx="2336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C:\Users\User\Desktop\dre0408l.jpg"/>
          <p:cNvPicPr/>
          <p:nvPr/>
        </p:nvPicPr>
        <p:blipFill>
          <a:blip r:embed="rId1"/>
          <a:stretch/>
        </p:blipFill>
        <p:spPr>
          <a:xfrm>
            <a:off x="0" y="3276720"/>
            <a:ext cx="2560680" cy="3581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1488b"/>
                </a:solidFill>
                <a:latin typeface="Cambria"/>
              </a:rPr>
              <a:t>Посебни етички аспек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64448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ambria"/>
              </a:rPr>
              <a:t>Притисак на чланове</a:t>
            </a:r>
            <a:r>
              <a:rPr b="0" lang="sr-CS" sz="3100" spc="-1" strike="noStrike">
                <a:solidFill>
                  <a:srgbClr val="000000"/>
                </a:solidFill>
                <a:latin typeface="Cambria"/>
              </a:rPr>
              <a:t> породице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5520" indent="-25992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ambria"/>
              </a:rPr>
              <a:t>Социјална стигма и дискриминациј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5520" indent="-25992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ambria"/>
              </a:rPr>
              <a:t>Неочекивани налази (нпр. очинство)</a:t>
            </a:r>
            <a:r>
              <a:rPr b="0" lang="ar-SA" sz="3100" spc="-1" strike="noStrike">
                <a:solidFill>
                  <a:srgbClr val="000000"/>
                </a:solidFill>
                <a:latin typeface="Cambria"/>
                <a:ea typeface="Times New Roman"/>
              </a:rPr>
              <a:t>‏</a:t>
            </a:r>
            <a:r>
              <a:rPr b="0" lang="ar-SA" sz="31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5520" indent="-25992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ambria"/>
              </a:rPr>
              <a:t>Процена реалног ризика добијених резултат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5520" indent="-25992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ambria"/>
              </a:rPr>
              <a:t>Дискриминација од стране осигурања и послодавц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5520" indent="-25992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ambria"/>
              </a:rPr>
              <a:t>Могућност грешак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Развој нових лек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rug Research &amp;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деја (хипотез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изајн и синтеза субстан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клиничке студије: изоловани орагани или ин виво анимални експеримен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линичке студије: студије на људи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егистрација лека (лиценца за проме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тмаркетиншко праћење (студије) безбедности и компарације са другим лекови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1488b"/>
                </a:solidFill>
                <a:latin typeface="Cambria"/>
              </a:rPr>
              <a:t>Обележавање података и узора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434960" y="16761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ambria"/>
              </a:rPr>
              <a:t>Персонални идентификатори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601200" indent="-22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Не препоручује се у клиничким студија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6532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ambria"/>
              </a:rPr>
              <a:t>Кодира</a:t>
            </a:r>
            <a:r>
              <a:rPr b="0" lang="sr-CS" sz="3100" spc="-1" strike="noStrike">
                <a:solidFill>
                  <a:srgbClr val="000000"/>
                </a:solidFill>
                <a:latin typeface="Cambria"/>
              </a:rPr>
              <a:t>ње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601200" indent="-22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Једноструки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код (један кључ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01200" indent="-22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</a:t>
            </a: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воструки код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 (кодирање кода - два кључ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6532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ambria"/>
              </a:rPr>
              <a:t>Анонимизовани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601200" indent="-22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Кодира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ње, </a:t>
            </a: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а потом кључ кодова уништ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6532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ambria"/>
              </a:rPr>
              <a:t>Анонимни подаци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601200" indent="-22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Без персоналних индикатора и кодов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11488b"/>
                </a:solidFill>
                <a:latin typeface="Cambria"/>
              </a:rPr>
              <a:t>Фаза планирања студиј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000000"/>
                </a:solidFill>
                <a:latin typeface="Cambria"/>
              </a:rPr>
              <a:t>Склад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циљеви студиј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заштита безбедности и права на приватност испитани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000000"/>
                </a:solidFill>
                <a:latin typeface="Cambria"/>
              </a:rPr>
              <a:t>Дефинисати генетичке термине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риредити их на језику разумљивом лаи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000000"/>
                </a:solidFill>
                <a:latin typeface="Cambria"/>
              </a:rPr>
              <a:t>Протоколом дефинисати ситуације када се подаци повезују са датим испитаником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11488b"/>
                </a:solidFill>
                <a:latin typeface="Cambria"/>
              </a:rPr>
              <a:t>Права испитани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000000"/>
                </a:solidFill>
                <a:latin typeface="Cambria"/>
              </a:rPr>
              <a:t>Да се повуче из студије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000000"/>
                </a:solidFill>
                <a:latin typeface="Cambria"/>
              </a:rPr>
              <a:t>Да повуче сагласност за даља испитивања својих узорака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000000"/>
                </a:solidFill>
                <a:latin typeface="Cambria"/>
              </a:rPr>
              <a:t>Да испитаник и/или његов лекар добију повратне информације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000000"/>
                </a:solidFill>
                <a:latin typeface="Cambria"/>
              </a:rPr>
              <a:t>Да повуче сагласност за даље чување и анализу својих  узорак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само ако је могућа идентифика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mbria"/>
              </a:rPr>
              <a:t>подаци који су добијени до повлачења сагласности могу се користити без новог пристан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mbria"/>
              </a:rPr>
              <a:t>Информисани пристанак испитаника уз пуну обавештено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Хелсиншка декларац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нформације унапред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Језички сти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итања и одговор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себне (вулнерабилне) категорије: неписмени, когнитивни поремећаји, адолесцент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етаљна објашњена, прописана у 20 тачака ДКП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војеручни датирани потпис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пије свих докумената везаних за пристанак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11488b"/>
                </a:solidFill>
                <a:latin typeface="Cambria"/>
              </a:rPr>
              <a:t>Информисани пристанак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Начин узимања узора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Однос учешћа у испитивању лека и учешћа у фармакогеномском истраживањ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Трајање чувања узора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Начин уништавања узора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Генерисање и поступак са ћелијским културам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овезивање података са идентитет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Обележавање узорака и подата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роцедуре за разоткрив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11488b"/>
                </a:solidFill>
                <a:latin typeface="Cambria"/>
              </a:rPr>
              <a:t>Информисани пристанак (2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одатне анализе или узорц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mbria"/>
              </a:rPr>
              <a:t>са или без поновне сагласност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mbria"/>
              </a:rPr>
              <a:t>зависно од природе и ширине циљева студиј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mbria"/>
              </a:rPr>
              <a:t>Етички аспекти сагласности у првом пристанк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Однос са трећим лици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mbria"/>
              </a:rPr>
              <a:t>критеријуми за коришћење подата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mbria"/>
              </a:rPr>
              <a:t>карактеристике корисни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mbria"/>
              </a:rPr>
              <a:t>нацинални или међународн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mbria"/>
              </a:rPr>
              <a:t>тип (академски, непрофитни, комерцијални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mbria"/>
              </a:rPr>
              <a:t>потенцијално недефинисани корисниц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mbria"/>
              </a:rPr>
              <a:t>ризици по испитани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11488b"/>
                </a:solidFill>
                <a:latin typeface="Cambria"/>
              </a:rPr>
              <a:t>Информисани пристанак (3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mbria"/>
              </a:rPr>
              <a:t>Власнички односи банке узора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57480" indent="-276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mbria"/>
              </a:rPr>
              <a:t>Комерцијална употреб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867960" indent="-223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mbria"/>
              </a:rPr>
              <a:t>интелектуална свој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7480" indent="-276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mbria"/>
              </a:rPr>
              <a:t>Компензације испитаник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57480" indent="-276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mbria"/>
              </a:rPr>
              <a:t>Однос личне и опште кори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57480" indent="-276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mbria"/>
              </a:rPr>
              <a:t>Могућност контактирања у будућност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РЕГРУТОВАЊЕ ИСПИТА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Latn-CS" sz="3400" spc="-1" strike="noStrike">
                <a:solidFill>
                  <a:srgbClr val="000000"/>
                </a:solidFill>
                <a:latin typeface="Calibri"/>
              </a:rPr>
              <a:t>бухвата спектар </a:t>
            </a:r>
            <a:r>
              <a:rPr b="0" lang="sr-RS" sz="3400" spc="-1" strike="noStrike">
                <a:solidFill>
                  <a:srgbClr val="000000"/>
                </a:solidFill>
                <a:latin typeface="Calibri"/>
              </a:rPr>
              <a:t>поступака који се спроводе у циљу </a:t>
            </a:r>
            <a:r>
              <a:rPr b="0" lang="sr-Latn-CS" sz="3400" spc="-1" strike="noStrike">
                <a:solidFill>
                  <a:srgbClr val="000000"/>
                </a:solidFill>
                <a:latin typeface="Calibri"/>
              </a:rPr>
              <a:t>повећа</a:t>
            </a:r>
            <a:r>
              <a:rPr b="0" lang="sr-RS" sz="3400" spc="-1" strike="noStrike">
                <a:solidFill>
                  <a:srgbClr val="000000"/>
                </a:solidFill>
                <a:latin typeface="Calibri"/>
              </a:rPr>
              <a:t>ња броја испитаника </a:t>
            </a:r>
            <a:r>
              <a:rPr b="0" lang="sr-Latn-CS" sz="3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RS" sz="3400" spc="-1" strike="noStrike">
                <a:solidFill>
                  <a:srgbClr val="000000"/>
                </a:solidFill>
                <a:latin typeface="Calibri"/>
              </a:rPr>
              <a:t>кључених</a:t>
            </a:r>
            <a:r>
              <a:rPr b="0" lang="sr-Latn-CS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4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sr-Latn-CS" sz="3400" spc="-1" strike="noStrike">
                <a:solidFill>
                  <a:srgbClr val="000000"/>
                </a:solidFill>
                <a:latin typeface="Calibri"/>
              </a:rPr>
              <a:t>клиничк</a:t>
            </a:r>
            <a:r>
              <a:rPr b="0" lang="sr-RS" sz="3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Latn-CS" sz="3400" spc="-1" strike="noStrike">
                <a:solidFill>
                  <a:srgbClr val="000000"/>
                </a:solidFill>
                <a:latin typeface="Calibri"/>
              </a:rPr>
              <a:t> испитивањ</a:t>
            </a:r>
            <a:r>
              <a:rPr b="0" lang="sr-RS" sz="3400" spc="-1" strike="noStrike">
                <a:solidFill>
                  <a:srgbClr val="000000"/>
                </a:solidFill>
                <a:latin typeface="Calibri"/>
              </a:rPr>
              <a:t>е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400" spc="-1" strike="noStrike">
                <a:solidFill>
                  <a:srgbClr val="000000"/>
                </a:solidFill>
                <a:latin typeface="Calibri"/>
              </a:rPr>
              <a:t>Неадекватн</a:t>
            </a:r>
            <a:r>
              <a:rPr b="0" lang="sr-RS" sz="3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Latn-CS" sz="3400" spc="-1" strike="noStrike">
                <a:solidFill>
                  <a:srgbClr val="000000"/>
                </a:solidFill>
                <a:latin typeface="Calibri"/>
              </a:rPr>
              <a:t> регрутовање пацијената представља главну сметњу за успешно вођење клиничких испитивања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100" spc="-1" strike="noStrike">
                <a:solidFill>
                  <a:srgbClr val="000000"/>
                </a:solidFill>
                <a:latin typeface="Calibri"/>
              </a:rPr>
              <a:t>само мали део потенцијално </a:t>
            </a:r>
            <a:r>
              <a:rPr b="0" lang="sr-RS" sz="3100" spc="-1" strike="noStrike">
                <a:solidFill>
                  <a:srgbClr val="000000"/>
                </a:solidFill>
                <a:latin typeface="Calibri"/>
              </a:rPr>
              <a:t>погодних испитаника </a:t>
            </a:r>
            <a:r>
              <a:rPr b="0" lang="sr-Latn-CS" sz="3100" spc="-1" strike="noStrike">
                <a:solidFill>
                  <a:srgbClr val="000000"/>
                </a:solidFill>
                <a:latin typeface="Calibri"/>
              </a:rPr>
              <a:t>се разматра за </a:t>
            </a:r>
            <a:r>
              <a:rPr b="0" lang="sr-RS" sz="3100" spc="-1" strike="noStrike">
                <a:solidFill>
                  <a:srgbClr val="000000"/>
                </a:solidFill>
                <a:latin typeface="Calibri"/>
              </a:rPr>
              <a:t>укључивање у клиничку студију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тоде регрутовања пацијената за клиничку студиј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обра клиничка прак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Етички одбор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треба да добиј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следећа документ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оцедуре регрутације испитаника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(нпр. реклам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НСОРТ препору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Регрутовање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, тачка 1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ермини који одређују период регрутације и накнадног праћ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спешн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стратегија у регрутовању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Студијски ц</a:t>
            </a:r>
            <a:r>
              <a:rPr b="0" lang="sr-Latn-CS" sz="2100" spc="-1" strike="noStrike">
                <a:solidFill>
                  <a:srgbClr val="000000"/>
                </a:solidFill>
                <a:latin typeface="Calibri"/>
              </a:rPr>
              <a:t>ентр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Сачинити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 листу искусних 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истраживача са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 поз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ом за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 уче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шћ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Формулисати важно студиј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ско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 питањ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Развити одговарајућ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и етичк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 контрол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у терапиј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Осмислити дизајн студије који је јасан и једноставан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Сачинити 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јасан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 и једноставан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у информацију за 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пристанак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испитаник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Организовати састанак са истраживачим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Обезбедит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и упутство за истраживач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Објављив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ити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 студиј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ски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 дизајн и информације о лечењу у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медицинским часописим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Кори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стити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 медиј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Обезбедити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 адекватно финансирањ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Пруж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ити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 повратн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е 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информациј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 о напретку истраживањ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етклиничке студиј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Трају 1-5 година, просечно 2.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Миш, пацов, заморац, зец, мачка, пас, мајмун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тудије ин витро (анимално и хумано ткиво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Фармакокинетика и фармакодинами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нималне студије ин вив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Технолошки процес: хемијски и фармацеутски аспек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Етика у лабораторијским истраживањима (анималне студије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Лекови сирочићи (орпхан) - некомерцијални програ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Успешна стратегија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Истраживач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Усвојити стратегије доказане у претходним студијам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План ра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ти регрутацију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Обезбедити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 снажно лидерство на свим нивоим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Укључити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 заинтересован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 озбиљне истраживач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Укључити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 квалификован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 и посвећено особље студиј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Добит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сарадњ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у лекара опште пракс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Тестирати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 планиране стратегије 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регрутациј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Координира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ти мултипле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 стратегиј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Коришћење евиденције 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болесника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 са стањем од интерес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Коришћење 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упућивања од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 лекар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Коришћење 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упућивања од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 лабораториј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Коришћење медиј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Обезбедити повратне информације о 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напретку регрутације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Директни приступ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нтерн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Брошуре и постери на више лока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азговори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различитим група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егрутовање из бирачког спис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елефонска анкета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о случајном принцип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нтервју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и рекламе у медијим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радио, телевизија, новине, часописи, интерне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Дискусије на клиникама и груп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пацијена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ајмови з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дрављ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Индиректни п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риступ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исани материјал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да се повећа свест и захтев за упућив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еминари у болниц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бавештења на огласним табл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бавештења у часопис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исма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асописи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рибине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локалн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ционални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медицинск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м удружењ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рибине 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стручним друштв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зложбе на конференциј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едијске кампање у заједни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епоручене стратег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Content Placeholder 3" descr="Untitled-4.jpg"/>
          <p:cNvPicPr/>
          <p:nvPr/>
        </p:nvPicPr>
        <p:blipFill>
          <a:blip r:embed="rId1"/>
          <a:stretch/>
        </p:blipFill>
        <p:spPr>
          <a:xfrm>
            <a:off x="304920" y="2000160"/>
            <a:ext cx="868680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time magazine"/>
          <p:cNvPicPr/>
          <p:nvPr/>
        </p:nvPicPr>
        <p:blipFill>
          <a:blip r:embed="rId1"/>
          <a:stretch/>
        </p:blipFill>
        <p:spPr>
          <a:xfrm>
            <a:off x="1692360" y="0"/>
            <a:ext cx="611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ЗАКЉУЧА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спровођењу клиничких студија потребно је применити научне принципе, етичност и  безбедне услове, да би се одржало поверење спонзора, јавности, владе и посебно пацијената који учествују у истраживању- само очувано поверење може бити услов да клиничка испитивања буду прави допринос напретку медицинске наук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игурно је да, у крајњој линији све почива на интегритету појединца; његов стални допринос очувању високих етичких стандарда науке као професије мора бити подржаван од стране институције у којој ради и од стране здравсвених, научних и наставних власт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64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3480" y="28440"/>
            <a:ext cx="9077040" cy="680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4186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Клиничка истраживања-студије, трајал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Трајање 2-10 година, просечно 5.6 годи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Фаза 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спитаници: здрави добровољци (десетин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врха: подношљивост, фармакокинет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Фаза 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спитаници: одабрани болесници (стотин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врха: терапијски ефекти, дозни режим, фармакокинет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Фаза 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абрани болесници (стотине и хиљад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редјење са плацебом и досадашњим леков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НДА апликација (2 месеца - 7 година, просечно 2.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остмаркетиншка, фаза И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олесници у пракси (унутар одобрених индикациј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жељена дејства, образац прописивања, фармакоеконом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Drug R&amp;D phases"/>
          <p:cNvPicPr/>
          <p:nvPr/>
        </p:nvPicPr>
        <p:blipFill>
          <a:blip r:embed="rId1"/>
          <a:stretch/>
        </p:blipFill>
        <p:spPr>
          <a:xfrm>
            <a:off x="1371600" y="1676520"/>
            <a:ext cx="640080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29:59Z</dcterms:created>
  <dc:creator>User</dc:creator>
  <dc:description/>
  <dc:language>en-US</dc:language>
  <cp:lastModifiedBy>Dragana Ristic</cp:lastModifiedBy>
  <dcterms:modified xsi:type="dcterms:W3CDTF">2020-01-26T19:44:59Z</dcterms:modified>
  <cp:revision>25</cp:revision>
  <dc:subject/>
  <dc:title>ГЕНЕТСКА ИСПИТИВАЊА У КЛИНИЧКИМ СТУДИЈАМА</dc:title>
</cp:coreProperties>
</file>